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D2F-E898-4CDA-8E5A-06E0A2B9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B48-BC12-4C37-97E8-E5996C87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434-08F2-49C4-930E-B8C45749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893-119B-4A43-A5A6-207EEE26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FF9-1D03-4443-A551-8F01675D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C413-92C3-4192-B3B7-2385CAE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99DD-1EC2-4B36-A5DE-6C2C687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9445-EE07-404B-A1DF-5795870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1E4A-E3B5-4E54-A529-01009B3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810E-8605-44E0-B752-1DCC24CB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425D-18A6-413F-B7A4-B0B4417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9F9-A002-4A8D-ADAA-3AC250F9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443-A783-4B13-BD61-B1212D63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230-0ECA-4674-B357-9834DAD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68A-B8DE-4230-AA45-6E1A4E7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EE2-170C-45C3-9343-E0D9AA5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8ED3-7595-4431-A756-82D343BF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4AD-F157-40AB-9544-AF3006E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236-4F60-4FED-A6C9-B01819CB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B43-D12E-4822-877A-21BDCC61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749-A30B-4C36-9C1A-6A5596B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4BE-523F-4953-8B41-254FCAA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ED9-C8A3-4232-B06F-1E4B715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FBD-74A7-4BEF-9CB1-D143BB3D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78DE-4CA1-4FB6-A8CC-2AE3D878C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32B-43F8-4327-8026-F5BBE4C05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_4FxpJqpkApbajzbkF/SIG=128u7ui92/EXP=1226533240/**http%3A/www.africaconnect.co.za/SIERRE-LEONE_flag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rriam-webster.com/maps/images/maps/sierraleone_map.gif&amp;imgrefurl=http://www.merriam-webster.com/maps/sierra_leone.html&amp;h=370&amp;w=370&amp;sz=24&amp;hl=en&amp;start=1&amp;usg=__YY5QZ3F1I9cLLlj0bED-DkZy-5A=&amp;tbnid=8XcHcO6yd5huLM:&amp;tbnh=122&amp;tbnw=122&amp;prev=/images%3Fq%3Dsierre%2Bleone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te.gov/cms_images/2007_06_07_sierra_leone_6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ocorioko.net/ernestbaikoromaverybestpictur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aves_sierra_leon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0.blogger.com/_oTz964W60NY/Rs2iWx5GTaI/AAAAAAAAAQY/CUZ52fMkMIQ/s400/diamon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radiomundoreal.fm/rmr/files/images/2411-F-US%2520Rice.jpg&amp;imgrefurl=http://www.radiomundoreal.fm/rmr/%3Fq%3Den/node/20338&amp;h=127&amp;w=170&amp;sz=6&amp;hl=en&amp;start=34&amp;usg=__y8qVOIwam_jQvFdsgFRKUQiscaM=&amp;tbnid=XF3DdBDG0RRf-M:&amp;tbnh=74&amp;tbnw=99&amp;prev=/images%3Fq%3Dsierre%2Bleone%2527s%2Bimports%26start%3D18%26gbv%3D2%26ndsp%3D18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Image Pre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8920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honatan Zav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H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95640" y="1484280"/>
            <a:ext cx="482436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erra Leone</a:t>
            </a:r>
            <a:endParaRPr b="0" lang="en-US" sz="2400" spc="1" strike="noStrike">
              <a:ln w="12600">
                <a:solidFill>
                  <a:srgbClr val="00cc00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rra Leone is a country in the west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 is bordered by Guinea in the northeast, Liberia in the southeast, and the Atlantic Ocean in the southwest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213372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ment is democracy based on a constit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3 of the same branches as them, executive, judicial, and legisla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ident now is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Ernest Bai Kor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549360"/>
            <a:ext cx="2953080" cy="266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429000"/>
            <a:ext cx="2276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people to establish Sierra Leone were the Brit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untry was created for freed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n 1562 the English joined the trade in slaves when Sir John Hawkins bought 300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1680" y="2421000"/>
            <a:ext cx="2776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ports and In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rra Leone is a good export of diamo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ain imports that it receives is ri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34936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78936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2 million people live in Sierra Le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eople work in agriculture even though there isn’t much fertile so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48360" y="226692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 Sierra Leone may be successful because they have a government like ours and we turned out to be success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6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13:29Z</dcterms:created>
  <dc:creator>Hever</dc:creator>
  <dc:description/>
  <dc:language>en-US</dc:language>
  <cp:lastModifiedBy>Hever</cp:lastModifiedBy>
  <dcterms:modified xsi:type="dcterms:W3CDTF">2008-11-11T18:49:0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